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28A-2E36-453B-ACE8-111725CC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023-87B4-4C88-B40F-4CF1CE9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A39-5EE1-452F-9FDB-16D0CF80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2A3-C8B3-4E87-A125-D04EDFC4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A15-787C-48FA-AF7A-97F1730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B40-CD7C-4DDB-BE32-F4BC01B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FA8-A667-4294-867F-3DA7B98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54C-C848-4654-89FD-2F4DED9A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90D-3200-458B-83CE-D48F0A6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9E9-47BB-4885-9D73-D330F48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FBC-594B-4CD7-BC39-8E9F707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2B6-CCEE-4609-84E3-071988A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4AB77-CC38-47C3-BBF5-9F414C36C84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0200" y="3738600"/>
            <a:ext cx="1760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3819600"/>
            <a:ext cx="2800440" cy="140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sire and trouble are two branches of the same tre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- Welsh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0800" y="3902040"/>
            <a:ext cx="400068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People wh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Gigi"/>
              </a:rPr>
              <a:t>lov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each other, tell each other a thousand things without saying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Papyrus"/>
              </a:rPr>
              <a:t>word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~ Cambodian prover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21760" y="4226040"/>
            <a:ext cx="1039680" cy="1137960"/>
          </a:xfrm>
          <a:prstGeom prst="cloudCallout">
            <a:avLst>
              <a:gd name="adj1" fmla="val -11537"/>
              <a:gd name="adj2" fmla="val 10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943600"/>
            <a:ext cx="1336680" cy="12193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80520" y="4470480"/>
            <a:ext cx="720720" cy="568080"/>
          </a:xfrm>
          <a:custGeom>
            <a:avLst/>
            <a:gdLst>
              <a:gd name="textAreaLeft" fmla="*/ 169200 w 720720"/>
              <a:gd name="textAreaRight" fmla="*/ 550800 w 720720"/>
              <a:gd name="textAreaTop" fmla="*/ 66600 h 568080"/>
              <a:gd name="textAreaBottom" fmla="*/ 356400 h 56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56400"/>
            <a:ext cx="40006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To love someone who does not love you, is like shaking a tree to make the dew drops fall. </a:t>
            </a:r>
            <a:br>
              <a:rPr sz="25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Bradley Hand ITC"/>
              </a:rPr>
              <a:t>~ Congolese Prove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52000">
            <a:off x="7140960" y="692640"/>
            <a:ext cx="1776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If there is something you want, but you can’t have, find a way to get it, or find a way to get over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~ African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040000" y="637200"/>
            <a:ext cx="1606680" cy="256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If you can’t be with the one you love, love the one you’re w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~ Stephen St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0064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7924680" y="-360"/>
            <a:ext cx="139536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0800000">
            <a:off x="399960" y="1463040"/>
            <a:ext cx="40197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Love &amp;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Relationship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4-15T13:51:5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